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D3A-095F-439D-AA30-D03C3225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F2A-F8AF-4835-90F6-D4BD701A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FAB-49A1-450E-9B4B-1055E79F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336-4884-45CE-A600-998D0CBC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0F17-61E4-4C5D-B7C3-1154824E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7C6A-E2E5-4BEA-8902-DD13F84D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848F-C3EB-475D-9A9D-5230C85D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7F5D-D455-4947-9647-98B4A511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1BA7-867A-4E7E-BD3A-434629BF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C283-96DA-4861-BC9C-D5D8AEB4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89DA-D9CB-44D5-B5C9-E3E5616C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BD0-5FE4-4F65-81A4-A9802B8F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66D9-9F9D-4732-96F4-8CB488E9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BA43-3F4C-4F38-8BAD-9571B251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6EAF-5950-45EF-8E8E-7AEF0682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FE1C-E11D-4D21-AC91-C50A06FA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7DA0-54B5-4541-B8D3-30F7B06D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7C1-9570-41BB-8942-00717137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E21-87C3-4652-8817-CA3492E0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D8C-6DB9-4917-96B4-2F690ADF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B75-9708-40AB-9EFD-BFC2A22A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4BA-0C12-4C4C-AA32-3C413EDB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89A-4193-4AA4-80F3-2E8C20E4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FCF-77E1-4010-AD5E-AEDDBDF4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74E90-F424-4636-BE93-5AED6EFE785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4D9E6-9CE8-4D63-A10C-A967D8BD6A63}" type="slidenum"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CINDERELL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9640" y="1753920"/>
            <a:ext cx="792000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inderella is on stage with her two step si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AR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Once upon a time, there was a young woman named Cinderella who lived with her two stepsisters named   1)Krista         and        2)J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hey were mean to Cinderella and made her   3)stud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inderella pantomimes the chore while her stepsisters laugh at her.   Then her stepmother comes on s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ARRATOR (CONT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When Cinderella was done with that chore, her    4)th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tepmother made her         5c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tepmother acts in a way that fits the adjective in #4 and Cinderella pantomimes the new chore.   A prince appears on s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ARRATOR (CONT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One day the Prince announced he was having a  6)pijama 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31640" y="0"/>
            <a:ext cx="957600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PRI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I'm having a 6)pijama par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Prince exits. Cinderella and her stepsisters are exci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NAR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Everyone wanted to go, even Cinderella. But her stepmother had one more chore fo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STEP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You can go if you clean all the 7)mon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Stepsisters laugh and leave with stepmother. Cinderella pantomimes clean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NARRATOR: Cinderella tried cleaning them all but it was taking forever because there were so many. There were almost 8)5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Cinderella cleans faster but she is a getting tired and sad and finally falls down. She is so tired, she can't go on and c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NARRATOR 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Suddenly a magical 9)dancer appea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 comes on stage and Cinderella is surprised to se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: Cinderella. I am here to help you go to the party. Cinderella is exci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: First, I will turn 10) spoon into a d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 does this and Cinderella pretends to put on the d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 Then I will turn 11)salad into a carri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 pretends to do this and Cinderella pretends to get into this carri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 (CONT.</a:t>
            </a:r>
            <a:r>
              <a:rPr b="0" lang="el-GR" sz="10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92000" y="184320"/>
            <a:ext cx="9061560" cy="75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Finally I will get some 12)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Actors come in acting like these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MAGICAL PERSON (CONT.) ...and turn them into ho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Actors who were the animals now act like ho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NARRATOR: Then Cinderella was given slippers made of 13)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Cinderella puts these shoes on and does a little dance in them (the dance will be easy or hide depending what they are made o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MAGICAL PERSON : Have fun at the party. But remember the spell ends at 14)12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Cinderella gets in carriage and rides behind actors being horses and they go in circles around the stage and magical person exits. Actors enter as party g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NARRATOR: Cinderella arrived at the 6) pijama party and everyone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15) 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74680" y="-55440"/>
            <a:ext cx="8212320" cy="80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Party guests pretend like they are doing 15. One guest becomes the Pri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NARRATOR (CONT.) Then the prince saw Cinderella and said...16) 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The Prince and Cinderella had a wonderful time. But then the clock struck 14) 12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Cinderella freaks out and runs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PRINCE Wait you left your 13) wood Slip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NARRATOR: The next day the prince went looking for Cinderella. He couldn't find her because her stepmother had locked her in the 17) kit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During the narrator above, the Prince is searching around and the Stepmother locks up Cinder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NARRATOR : But Cinderella's little friend, a talking 18) p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ANIMAL 18 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NARRATOR: saw her trapped and guided the Prince to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ANIMAL 18 This way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2360" y="1228680"/>
            <a:ext cx="49878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ccffff"/>
                </a:solidFill>
                <a:latin typeface="Arial"/>
              </a:rPr>
              <a:t>Animal leads Prince to Cinderella. The Prince tries the slipper on Cinderella and it 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ccffff"/>
                </a:solidFill>
                <a:latin typeface="Arial"/>
              </a:rPr>
              <a:t>NARRATOR: The Prince tries the 13) wood slipper on Cinderella and it is a perfect f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ccffff"/>
                </a:solidFill>
                <a:latin typeface="Arial"/>
              </a:rPr>
              <a:t>ALL: And they all lived happily ever 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cc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CINDERELLA'S  PHO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6360" y="1368360"/>
            <a:ext cx="4464000" cy="309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40360" y="1368360"/>
            <a:ext cx="4994280" cy="309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482920" y="4464000"/>
            <a:ext cx="536580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#Vaso Bexi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#Anna Maria Papanikolaou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Alexandra Amoiridu X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09:15:48Z</dcterms:created>
  <dc:creator/>
  <dc:description/>
  <dc:language>en-US</dc:language>
  <cp:lastModifiedBy/>
  <dcterms:modified xsi:type="dcterms:W3CDTF">2016-02-09T09:34:08Z</dcterms:modified>
  <cp:revision>1</cp:revision>
  <dc:subject/>
  <dc:title/>
</cp:coreProperties>
</file>